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10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-952200"/>
            <a:ext cx="46036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560" y="950760"/>
            <a:ext cx="870876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50560" y="2585520"/>
            <a:ext cx="870876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920" y="-952200"/>
            <a:ext cx="46036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0560" y="950760"/>
            <a:ext cx="424980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3120" y="950760"/>
            <a:ext cx="424980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50560" y="2585520"/>
            <a:ext cx="424980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3120" y="2585520"/>
            <a:ext cx="424980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0920" y="-952200"/>
            <a:ext cx="46036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0560" y="950760"/>
            <a:ext cx="280404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5360" y="950760"/>
            <a:ext cx="280404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9800" y="950760"/>
            <a:ext cx="280404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50560" y="2585520"/>
            <a:ext cx="280404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5360" y="2585520"/>
            <a:ext cx="280404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9800" y="2585520"/>
            <a:ext cx="280404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920" y="-952200"/>
            <a:ext cx="46036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50560" y="950760"/>
            <a:ext cx="8708760" cy="31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-952200"/>
            <a:ext cx="46036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560" y="950760"/>
            <a:ext cx="870876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-952200"/>
            <a:ext cx="46036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950760"/>
            <a:ext cx="424980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3120" y="950760"/>
            <a:ext cx="424980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-952200"/>
            <a:ext cx="46036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50920" y="1080"/>
            <a:ext cx="4603680" cy="22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-952200"/>
            <a:ext cx="46036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950760"/>
            <a:ext cx="424980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3120" y="950760"/>
            <a:ext cx="424980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50560" y="2585520"/>
            <a:ext cx="424980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50920" y="-952200"/>
            <a:ext cx="46036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50560" y="950760"/>
            <a:ext cx="8708760" cy="31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-952200"/>
            <a:ext cx="46036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560" y="950760"/>
            <a:ext cx="424980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3120" y="950760"/>
            <a:ext cx="424980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13120" y="2585520"/>
            <a:ext cx="424980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920" y="-952200"/>
            <a:ext cx="46036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560" y="950760"/>
            <a:ext cx="424980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3120" y="950760"/>
            <a:ext cx="424980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50560" y="2585520"/>
            <a:ext cx="870876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-952200"/>
            <a:ext cx="46036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950760"/>
            <a:ext cx="870876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50560" y="2585520"/>
            <a:ext cx="870876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-952200"/>
            <a:ext cx="46036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50760"/>
            <a:ext cx="424980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3120" y="950760"/>
            <a:ext cx="424980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50560" y="2585520"/>
            <a:ext cx="424980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13120" y="2585520"/>
            <a:ext cx="424980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-952200"/>
            <a:ext cx="46036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560" y="950760"/>
            <a:ext cx="280404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5360" y="950760"/>
            <a:ext cx="280404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39800" y="950760"/>
            <a:ext cx="280404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50560" y="2585520"/>
            <a:ext cx="280404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5360" y="2585520"/>
            <a:ext cx="280404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39800" y="2585520"/>
            <a:ext cx="280404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-952200"/>
            <a:ext cx="46036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50560" y="950760"/>
            <a:ext cx="870876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-952200"/>
            <a:ext cx="46036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50760"/>
            <a:ext cx="424980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3120" y="950760"/>
            <a:ext cx="424980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920" y="-952200"/>
            <a:ext cx="46036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50920" y="1080"/>
            <a:ext cx="4603680" cy="22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-952200"/>
            <a:ext cx="46036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50560" y="950760"/>
            <a:ext cx="424980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3120" y="950760"/>
            <a:ext cx="424980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50560" y="2585520"/>
            <a:ext cx="424980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-952200"/>
            <a:ext cx="46036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560" y="950760"/>
            <a:ext cx="424980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3120" y="950760"/>
            <a:ext cx="424980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3120" y="2585520"/>
            <a:ext cx="424980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-952200"/>
            <a:ext cx="46036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560" y="950760"/>
            <a:ext cx="424980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120" y="950760"/>
            <a:ext cx="424980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50560" y="2585520"/>
            <a:ext cx="870876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96480"/>
            <a:ext cx="822492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199880"/>
            <a:ext cx="822492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4684320"/>
            <a:ext cx="895968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0920" y="1080"/>
            <a:ext cx="460368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250560" y="950760"/>
            <a:ext cx="870876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Freeform 3"/>
          <p:cNvSpPr/>
          <p:nvPr/>
        </p:nvSpPr>
        <p:spPr>
          <a:xfrm>
            <a:off x="250920" y="627120"/>
            <a:ext cx="8713800" cy="55440"/>
          </a:xfrm>
          <a:custGeom>
            <a:avLst/>
            <a:gdLst>
              <a:gd name="textAreaLeft" fmla="*/ 0 w 8713800"/>
              <a:gd name="textAreaRight" fmla="*/ 8714160 w 87138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27" y="0"/>
                </a:lnTo>
                <a:lnTo>
                  <a:pt x="527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6156360" y="0"/>
            <a:ext cx="2987640" cy="585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280" y="771480"/>
            <a:ext cx="82090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cs-CZ" sz="4400" spc="-1" strike="noStrike">
                <a:solidFill>
                  <a:srgbClr val="cc0000"/>
                </a:solidFill>
                <a:latin typeface="Tahoma"/>
              </a:rPr>
              <a:t>Aplikace principů udržitelné mobility v Jihlavě</a:t>
            </a:r>
            <a:endParaRPr b="1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800" cy="17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Karel Troja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560" y="303120"/>
            <a:ext cx="62658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Tahoma"/>
              </a:rPr>
              <a:t>Doprava v klidu</a:t>
            </a:r>
            <a:endParaRPr b="1" lang="en-US" sz="18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50920" y="1112400"/>
            <a:ext cx="7200720" cy="34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Nařízení města Jihlava č. 2/2014 o placeném stání silničních motorových vozidel na místních komunikací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Koncepce parkovacího systému na území širšího centra měs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Plán výstavby nových parkovišť P+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5" descr="Parkoviště P + R"/>
          <p:cNvPicPr/>
          <p:nvPr/>
        </p:nvPicPr>
        <p:blipFill>
          <a:blip r:embed="rId1"/>
          <a:stretch/>
        </p:blipFill>
        <p:spPr>
          <a:xfrm>
            <a:off x="7596360" y="1220760"/>
            <a:ext cx="1079280" cy="1133640"/>
          </a:xfrm>
          <a:prstGeom prst="rect">
            <a:avLst/>
          </a:prstGeom>
          <a:ln w="0">
            <a:noFill/>
          </a:ln>
        </p:spPr>
      </p:pic>
      <p:pic>
        <p:nvPicPr>
          <p:cNvPr id="118" name="Obrázek 4" descr="C:\Users\dvorak.zdenek\Desktop\foto\2016 práce\20160704_145907_s.jpg"/>
          <p:cNvPicPr/>
          <p:nvPr/>
        </p:nvPicPr>
        <p:blipFill>
          <a:blip r:embed="rId2"/>
          <a:stretch/>
        </p:blipFill>
        <p:spPr>
          <a:xfrm>
            <a:off x="4211640" y="3641760"/>
            <a:ext cx="3673440" cy="9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302760"/>
            <a:ext cx="6192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Tahoma"/>
              </a:rPr>
              <a:t>Vznik plánu udržitelné městské mobility v Jihlavě</a:t>
            </a:r>
            <a:endParaRPr b="1" lang="en-US" sz="18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50560" y="915840"/>
            <a:ext cx="87138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Různé generely a koncepce nejsou vzájemně provázan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mobilita je velmi úzce provázaný systém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Komunikace s občany měs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Zapojení obyvatel do řešení problémů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ZMĚNA znamená PŘÍLEŽITOST, nikoliv KOMPLIKACI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KOLMO BUSEM PĚŠKY S JIHLAVSKÝMI JEŽK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Šipka dolů 1"/>
          <p:cNvSpPr/>
          <p:nvPr/>
        </p:nvSpPr>
        <p:spPr>
          <a:xfrm>
            <a:off x="3995640" y="2859120"/>
            <a:ext cx="792360" cy="504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920" y="302760"/>
            <a:ext cx="6192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Tahoma"/>
              </a:rPr>
              <a:t>Kolmo busem pěšky s jihlavskými ježky</a:t>
            </a:r>
            <a:endParaRPr b="1" lang="en-US" sz="18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50560" y="843120"/>
            <a:ext cx="5329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Komunikační kampaň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Centrum dopravního výzkumu, v.v.i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Cílová skupina Jihlavané a lidé dojíždějící do Jihlavy za studiem a prací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podvědomí veřejnosti o pojmu „mobilita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odbourat zakořeněné „dopravní“ mýt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informovat o výhodách alternativních možností doprav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Obrázek 1" descr=""/>
          <p:cNvPicPr/>
          <p:nvPr/>
        </p:nvPicPr>
        <p:blipFill>
          <a:blip r:embed="rId1"/>
          <a:stretch/>
        </p:blipFill>
        <p:spPr>
          <a:xfrm>
            <a:off x="5580000" y="1492200"/>
            <a:ext cx="3230640" cy="194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920" y="302760"/>
            <a:ext cx="6192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Tahoma"/>
              </a:rPr>
              <a:t>Kolmo busem pěšky s jihlavskými ježky</a:t>
            </a:r>
            <a:endParaRPr b="1" lang="en-US" sz="18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50560" y="1112400"/>
            <a:ext cx="8496360" cy="37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Kampaň je rozvržena do 6 měsíců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MH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Cyklodoprav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Pěší doprav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Bezpečnos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Objevování veřejného prostoru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920" y="302760"/>
            <a:ext cx="6192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Tahoma"/>
              </a:rPr>
              <a:t>Kolmo busem pěšky s jihlavskými ježky</a:t>
            </a:r>
            <a:endParaRPr b="1" lang="en-US" sz="18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50560" y="1112400"/>
            <a:ext cx="8496360" cy="37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ahoma"/>
              </a:rPr>
              <a:t>tři základní skladebné prvky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ahoma"/>
              </a:rPr>
              <a:t>VĚDĚT – prohlubování obecného povědomí o mobilitě – komunikovat pozitivní dopady na životní prostředí, zdraví, na kvalitu veřejného prostoru, apod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ahoma"/>
              </a:rPr>
              <a:t>ZAŽÍT – nabídnout možnost „ochutnat“ všechny možné druhy alternativní dopravy, zažít díky tomu město jinak, objevit veřejný prostor jako místo setkávání (což IAD neumožňuje)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ahoma"/>
              </a:rPr>
              <a:t>ZMĚNIT – nastartovat postupné změny vzorců chování ve městě, podnítit ke změně postojů a názorů, podchytit aktivní účastníky změn a zapojit je do plánování, nastavit přirozenou paralelu mezi pojmy Jihlava-MHD-kolo-chůze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Tahoma"/>
              </a:rPr>
              <a:t>Projekt KBPsJJ je nejlepší příležitostí, jak nastartovat tuto velkou veřejnou diskuzi.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0360" y="1006560"/>
            <a:ext cx="575784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cc0000"/>
                </a:solidFill>
                <a:latin typeface="Tahoma"/>
              </a:rPr>
              <a:t>Aplikace principů udržitelné mobility v Jihlavě</a:t>
            </a:r>
            <a:endParaRPr b="1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800" cy="17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Děkuji za pozornos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ahoma"/>
              </a:rPr>
              <a:t>Karel Trojan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560" y="33120"/>
            <a:ext cx="60498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Tahoma"/>
              </a:rPr>
              <a:t>Statutární město Jihlava</a:t>
            </a:r>
            <a:endParaRPr b="1" lang="en-US" sz="18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50920" y="1112400"/>
            <a:ext cx="6842160" cy="34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Krajské město Kraje Vysočin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50 000 obyvat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Člen sítě měst CIVINET Česká a Slovenská republik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Hradišťská char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Zakládající člen Asociace měst pro cyklist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Člen NSZM a MA 21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3" name="Obrázek 1" descr=""/>
          <p:cNvPicPr/>
          <p:nvPr/>
        </p:nvPicPr>
        <p:blipFill>
          <a:blip r:embed="rId1"/>
          <a:stretch/>
        </p:blipFill>
        <p:spPr>
          <a:xfrm>
            <a:off x="6875640" y="915840"/>
            <a:ext cx="1819080" cy="148752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" descr=""/>
          <p:cNvPicPr/>
          <p:nvPr/>
        </p:nvPicPr>
        <p:blipFill>
          <a:blip r:embed="rId2"/>
          <a:stretch/>
        </p:blipFill>
        <p:spPr>
          <a:xfrm>
            <a:off x="7068960" y="2635200"/>
            <a:ext cx="1751040" cy="211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33120"/>
            <a:ext cx="60498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Tahoma"/>
              </a:rPr>
              <a:t>Plánování v oblasti udržitelné mobility</a:t>
            </a:r>
            <a:endParaRPr b="1" lang="en-US" sz="18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50920" y="1112400"/>
            <a:ext cx="8208720" cy="34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Tvorba různých strategických dokumentů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Moderní dopravní plánování v souladu s trendy udržitelného rozvoj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ff0000"/>
                </a:solidFill>
                <a:latin typeface="Tahoma"/>
              </a:rPr>
              <a:t>Sustainablle Urban Mobility Pla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každý druh dopravy je přínosný !!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Šipka dolů 3"/>
          <p:cNvSpPr/>
          <p:nvPr/>
        </p:nvSpPr>
        <p:spPr>
          <a:xfrm>
            <a:off x="4309920" y="2197080"/>
            <a:ext cx="432000" cy="289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Q:\CYKLO\KBPsJJ\sumps_scheme-580x318.png"/>
          <p:cNvPicPr/>
          <p:nvPr/>
        </p:nvPicPr>
        <p:blipFill>
          <a:blip r:embed="rId1"/>
          <a:stretch/>
        </p:blipFill>
        <p:spPr>
          <a:xfrm>
            <a:off x="2627280" y="2841480"/>
            <a:ext cx="352908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33120"/>
            <a:ext cx="60498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Tahoma"/>
              </a:rPr>
              <a:t>Statutární město Jihlava a udržitelná mobilita</a:t>
            </a:r>
            <a:endParaRPr b="1" lang="en-US" sz="18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79280" y="1131480"/>
            <a:ext cx="5688000" cy="34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Magistrát města Jihlavy rozdělen do řady odborů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2012 zřízena pozice cyklokoordinátor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2015 transformace na koordinátora městské mobility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2015 ustanovena pracovní skupina pro městskou mobilitu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Obrázek 1" descr=""/>
          <p:cNvPicPr/>
          <p:nvPr/>
        </p:nvPicPr>
        <p:blipFill>
          <a:blip r:embed="rId1"/>
          <a:stretch/>
        </p:blipFill>
        <p:spPr>
          <a:xfrm>
            <a:off x="5796000" y="1492200"/>
            <a:ext cx="2857320" cy="19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920" y="303120"/>
            <a:ext cx="60386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Tahoma"/>
              </a:rPr>
              <a:t>Pěší doprava</a:t>
            </a:r>
            <a:endParaRPr b="1" lang="en-US" sz="18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50560" y="1112400"/>
            <a:ext cx="8496360" cy="34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Generel bezbariérové dopravy a bezbariérových tras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Nasvětleno více něž 60 přechodů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60 bezbariérových zastávek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Bezbariérové úpravy vybraných křižovatek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Obrázek 3" descr=""/>
          <p:cNvPicPr/>
          <p:nvPr/>
        </p:nvPicPr>
        <p:blipFill>
          <a:blip r:embed="rId1"/>
          <a:stretch/>
        </p:blipFill>
        <p:spPr>
          <a:xfrm>
            <a:off x="611280" y="2817720"/>
            <a:ext cx="2938320" cy="1419480"/>
          </a:xfrm>
          <a:prstGeom prst="rect">
            <a:avLst/>
          </a:prstGeom>
          <a:ln w="0">
            <a:noFill/>
          </a:ln>
        </p:spPr>
      </p:pic>
      <p:pic>
        <p:nvPicPr>
          <p:cNvPr id="95" name="Obrázek 1" descr=""/>
          <p:cNvPicPr/>
          <p:nvPr/>
        </p:nvPicPr>
        <p:blipFill>
          <a:blip r:embed="rId2"/>
          <a:stretch/>
        </p:blipFill>
        <p:spPr>
          <a:xfrm>
            <a:off x="6516720" y="3583080"/>
            <a:ext cx="2000160" cy="1344600"/>
          </a:xfrm>
          <a:prstGeom prst="rect">
            <a:avLst/>
          </a:prstGeom>
          <a:ln w="0">
            <a:noFill/>
          </a:ln>
        </p:spPr>
      </p:pic>
      <p:pic>
        <p:nvPicPr>
          <p:cNvPr id="96" name="Obrázek 2" descr=""/>
          <p:cNvPicPr/>
          <p:nvPr/>
        </p:nvPicPr>
        <p:blipFill>
          <a:blip r:embed="rId3"/>
          <a:stretch/>
        </p:blipFill>
        <p:spPr>
          <a:xfrm>
            <a:off x="3924360" y="3219480"/>
            <a:ext cx="20574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560" y="33120"/>
            <a:ext cx="60498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Tahoma"/>
              </a:rPr>
              <a:t>Cyklistiská doprava</a:t>
            </a:r>
            <a:endParaRPr b="1" lang="en-US" sz="18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50920" y="1112400"/>
            <a:ext cx="4465440" cy="34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Generel cyklistické dopravy,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Monitoringu cyklistické a pěší doprav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2 mobilní cyklosčítač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10 pevnými sčítacími míst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Obrázek 6" descr="Q:\CYKLO\ROZPRACOVANE\Monitoring cyklistů\Heulos\Heulos 15.5-20.6.2013\P1010002.JPG"/>
          <p:cNvPicPr/>
          <p:nvPr/>
        </p:nvPicPr>
        <p:blipFill>
          <a:blip r:embed="rId1"/>
          <a:srcRect l="12607" t="0" r="29523" b="0"/>
          <a:stretch/>
        </p:blipFill>
        <p:spPr>
          <a:xfrm>
            <a:off x="5003640" y="3219480"/>
            <a:ext cx="1843200" cy="1793880"/>
          </a:xfrm>
          <a:prstGeom prst="rect">
            <a:avLst/>
          </a:prstGeom>
          <a:ln w="0">
            <a:noFill/>
          </a:ln>
        </p:spPr>
      </p:pic>
      <p:pic>
        <p:nvPicPr>
          <p:cNvPr id="100" name="Graf 6" descr=""/>
          <p:cNvPicPr/>
          <p:nvPr/>
        </p:nvPicPr>
        <p:blipFill>
          <a:blip r:embed="rId2"/>
          <a:stretch/>
        </p:blipFill>
        <p:spPr>
          <a:xfrm>
            <a:off x="4711680" y="781200"/>
            <a:ext cx="4187880" cy="2498400"/>
          </a:xfrm>
          <a:prstGeom prst="rect">
            <a:avLst/>
          </a:prstGeom>
          <a:ln w="0">
            <a:noFill/>
          </a:ln>
        </p:spPr>
      </p:pic>
      <p:pic>
        <p:nvPicPr>
          <p:cNvPr id="101" name="Obrázek 1" descr=""/>
          <p:cNvPicPr/>
          <p:nvPr/>
        </p:nvPicPr>
        <p:blipFill>
          <a:blip r:embed="rId3"/>
          <a:stretch/>
        </p:blipFill>
        <p:spPr>
          <a:xfrm>
            <a:off x="1619280" y="3079800"/>
            <a:ext cx="1671480" cy="192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560" y="33120"/>
            <a:ext cx="60498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Tahoma"/>
              </a:rPr>
              <a:t>Cyklistiská doprava</a:t>
            </a:r>
            <a:endParaRPr b="1" lang="en-US" sz="18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50560" y="1112400"/>
            <a:ext cx="5257800" cy="34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tříbrné pomezí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Unikátní systém značených cyklotras a tras pro pěší o délce 270 km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26 partnerských obcí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Jihlava – Třebíč – Raab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Mezinárodní cyklotrasa č. 26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Dobrovolný svazek 25 obcí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Obrázek 2" descr=""/>
          <p:cNvPicPr/>
          <p:nvPr/>
        </p:nvPicPr>
        <p:blipFill>
          <a:blip r:embed="rId1"/>
          <a:stretch/>
        </p:blipFill>
        <p:spPr>
          <a:xfrm>
            <a:off x="7020000" y="1924200"/>
            <a:ext cx="1346040" cy="1793880"/>
          </a:xfrm>
          <a:prstGeom prst="rect">
            <a:avLst/>
          </a:prstGeom>
          <a:ln w="0">
            <a:noFill/>
          </a:ln>
        </p:spPr>
      </p:pic>
      <p:pic>
        <p:nvPicPr>
          <p:cNvPr id="105" name="Obrázek 1" descr=""/>
          <p:cNvPicPr/>
          <p:nvPr/>
        </p:nvPicPr>
        <p:blipFill>
          <a:blip r:embed="rId2"/>
          <a:stretch/>
        </p:blipFill>
        <p:spPr>
          <a:xfrm>
            <a:off x="6372360" y="809640"/>
            <a:ext cx="2338200" cy="947880"/>
          </a:xfrm>
          <a:prstGeom prst="rect">
            <a:avLst/>
          </a:prstGeom>
          <a:ln w="0">
            <a:noFill/>
          </a:ln>
        </p:spPr>
      </p:pic>
      <p:pic>
        <p:nvPicPr>
          <p:cNvPr id="106" name="Obrázek 2" descr=""/>
          <p:cNvPicPr/>
          <p:nvPr/>
        </p:nvPicPr>
        <p:blipFill>
          <a:blip r:embed="rId3"/>
          <a:stretch/>
        </p:blipFill>
        <p:spPr>
          <a:xfrm>
            <a:off x="6869160" y="3867120"/>
            <a:ext cx="1647720" cy="10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560" y="302760"/>
            <a:ext cx="554508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Tahoma"/>
              </a:rPr>
              <a:t>Veřejná hromadná doprava</a:t>
            </a:r>
            <a:endParaRPr b="1" lang="en-US" sz="18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50560" y="915840"/>
            <a:ext cx="56163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Neexistuje žádná dlouhodobá strategi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Nejlepší výsledky z oblasti udržitelné mobilit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Růst počtu cestující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Jedny z nejnižších dotací v rámci Č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284720" y="3508200"/>
          <a:ext cx="4673520" cy="1454400"/>
        </p:xfrm>
        <a:graphic>
          <a:graphicData uri="http://schemas.openxmlformats.org/drawingml/2006/table">
            <a:tbl>
              <a:tblPr/>
              <a:tblGrid>
                <a:gridCol w="633240"/>
                <a:gridCol w="1078200"/>
                <a:gridCol w="987120"/>
                <a:gridCol w="987480"/>
                <a:gridCol w="987480"/>
              </a:tblGrid>
              <a:tr h="471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o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čet cestujících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čet cest na obyvatele *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bjem vozok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otace na provoz MHD z rozpočtu města **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22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 082 tis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 819 tis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7 mil. Kč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23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 720 tis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 826 tis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7 mil. Kč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22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 690 tis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 812 tis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9 mil. Kč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22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 745 tis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 821 tis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9 mil. Kč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22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 530 tis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 821 tis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9 mil. Kč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23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 777 tis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 862 tis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 mil. Kč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22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 790 tis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 032 tis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2 mil. Kč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22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 860 tis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905 tis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 mil. Kč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pic>
        <p:nvPicPr>
          <p:cNvPr id="110" name="Graf 6" descr=""/>
          <p:cNvPicPr/>
          <p:nvPr/>
        </p:nvPicPr>
        <p:blipFill>
          <a:blip r:embed="rId1"/>
          <a:stretch/>
        </p:blipFill>
        <p:spPr>
          <a:xfrm>
            <a:off x="5572080" y="1054080"/>
            <a:ext cx="3516480" cy="25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302760"/>
            <a:ext cx="554508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Tahoma"/>
              </a:rPr>
              <a:t>Veřejná hromadná doprava</a:t>
            </a:r>
            <a:endParaRPr b="1" lang="en-US" sz="18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50560" y="771120"/>
            <a:ext cx="52578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Preference MH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preference MHD na světelně řízených křižovatkách ve městě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Od roku 2015 první 2 BUS pruh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Vozový park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Takřka 100 % nízkopodlažní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2/3 cestující přepravují trolejbus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Polovina vozového parku autobusů na C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2" descr="E:\članek-prefernece\DSCN0116.jpg"/>
          <p:cNvPicPr/>
          <p:nvPr/>
        </p:nvPicPr>
        <p:blipFill>
          <a:blip r:embed="rId1"/>
          <a:stretch/>
        </p:blipFill>
        <p:spPr>
          <a:xfrm>
            <a:off x="5710320" y="700200"/>
            <a:ext cx="3002040" cy="2070000"/>
          </a:xfrm>
          <a:prstGeom prst="rect">
            <a:avLst/>
          </a:prstGeom>
          <a:ln w="0">
            <a:noFill/>
          </a:ln>
        </p:spPr>
      </p:pic>
      <p:pic>
        <p:nvPicPr>
          <p:cNvPr id="114" name="Obrázek 3" descr="http://foto.bmhd.cz/f/72/711/71077.jpg"/>
          <p:cNvPicPr/>
          <p:nvPr/>
        </p:nvPicPr>
        <p:blipFill>
          <a:blip r:embed="rId2"/>
          <a:stretch/>
        </p:blipFill>
        <p:spPr>
          <a:xfrm>
            <a:off x="5715000" y="2859120"/>
            <a:ext cx="3017880" cy="1962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19T06:46:21Z</dcterms:created>
  <dc:creator>pribyl.pavel</dc:creator>
  <dc:description/>
  <dc:language>en-US</dc:language>
  <cp:lastModifiedBy>Uzivatel</cp:lastModifiedBy>
  <dcterms:modified xsi:type="dcterms:W3CDTF">2016-11-06T18:43:34Z</dcterms:modified>
  <cp:revision>100</cp:revision>
  <dc:subject/>
  <dc:title>Jmenovité akce 2016, OD</dc:title>
</cp:coreProperties>
</file>