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12D-AF1C-4B59-8A0E-4300D783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D76-D702-4C07-BCD3-A1E3D866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A93-A163-4B03-90D6-F8042E57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384-E3A4-4E92-A37A-07A26B58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96D-B86B-47AC-91D8-BC6E329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094-32C6-4AE9-8599-C3DE332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EB5-DB1B-442D-A815-3663BC1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458-4B89-4C87-BDF8-C1979DC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8D3-083A-4338-A474-EFBAE42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0A3-9081-4BB7-8C06-9FDD1EB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F31-313F-49BE-895A-D15C292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0FB-3365-4BC5-A720-59743C3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E7C3-5393-4758-AE4A-A12EDF4444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B593-55CB-4758-AD9A-7671B5CA9F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85D-6482-478C-ACE5-6A5D576714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ástupný symbol pro zápatí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C15-238E-4BE4-BDD1-592A42B69B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5C3-CE4A-4EB8-97B5-A3C3DB45D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C1BD-F535-4341-AD99-8B6EB59E78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79640" y="907920"/>
          <a:ext cx="4824360" cy="3394080"/>
        </p:xfrm>
        <a:graphic>
          <a:graphicData uri="http://schemas.openxmlformats.org/drawingml/2006/table">
            <a:tbl>
              <a:tblPr/>
              <a:tblGrid>
                <a:gridCol w="2379600"/>
                <a:gridCol w="1236600"/>
                <a:gridCol w="1208160"/>
              </a:tblGrid>
              <a:tr h="123516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oj hlu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cs-CZ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v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d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cs-CZ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d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ilniční 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Železniční 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ecká do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ovaná zaříz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ovéPole 5"/>
          <p:cNvSpPr/>
          <p:nvPr/>
        </p:nvSpPr>
        <p:spPr>
          <a:xfrm>
            <a:off x="1476360" y="333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zní hodnoty hlukových ukazatelů (M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1476360" y="48690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ezní hodnoty nejsou hygienickými limity hlu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250920" y="57340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řekročení MH = tvorby akčních plánů protihlukových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ýsl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F1A-BA10-4527-83CC-01A0833B00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E13E-BF84-407E-A9CA-66E52E7B82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75B-3112-4974-AE27-0864BEDF5B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4CD-1E83-4A25-A33B-BB5F3229F4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1"/>
          <a:stretch/>
        </p:blipFill>
        <p:spPr>
          <a:xfrm>
            <a:off x="374760" y="692280"/>
            <a:ext cx="876924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TextovéPole 6"/>
          <p:cNvSpPr/>
          <p:nvPr/>
        </p:nvSpPr>
        <p:spPr>
          <a:xfrm>
            <a:off x="826920" y="404640"/>
            <a:ext cx="69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ky SHM – grafická prezenta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d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7"/>
          <p:cNvSpPr/>
          <p:nvPr/>
        </p:nvSpPr>
        <p:spPr>
          <a:xfrm>
            <a:off x="1116000" y="587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mzcr.cz/hlukovem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F69B-258C-49EA-8C75-831CEF9741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B3E-566B-4E95-9DBC-DBC5E52E51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686640" cy="472464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5"/>
          <p:cNvSpPr/>
          <p:nvPr/>
        </p:nvSpPr>
        <p:spPr>
          <a:xfrm>
            <a:off x="900000" y="40464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 mapový vý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3D6-C3BA-4114-8097-81F67668D5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FE5-450D-40B0-A225-C482FE99A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19280" y="765000"/>
          <a:ext cx="5905440" cy="4751640"/>
        </p:xfrm>
        <a:graphic>
          <a:graphicData uri="http://schemas.openxmlformats.org/drawingml/2006/table">
            <a:tbl>
              <a:tblPr/>
              <a:tblGrid>
                <a:gridCol w="1384200"/>
                <a:gridCol w="1563840"/>
                <a:gridCol w="1569960"/>
                <a:gridCol w="1387440"/>
              </a:tblGrid>
              <a:tr h="540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vn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[dB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exponovaných os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o aglome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aglomerací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-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9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0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7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M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HL</a:t>
                      </a:r>
                      <a:r>
                        <a:rPr b="1" lang="cs-C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71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4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9067-2132-4039-8E23-2DA7E38DFE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4AA9-0D7C-411A-8685-3F44044717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3640" y="765000"/>
          <a:ext cx="5761080" cy="4751640"/>
        </p:xfrm>
        <a:graphic>
          <a:graphicData uri="http://schemas.openxmlformats.org/drawingml/2006/table">
            <a:tbl>
              <a:tblPr/>
              <a:tblGrid>
                <a:gridCol w="1349280"/>
                <a:gridCol w="1527480"/>
                <a:gridCol w="1530360"/>
                <a:gridCol w="1353960"/>
              </a:tblGrid>
              <a:tr h="392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B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exponovaných os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o aglome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aglomerací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3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23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57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M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9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3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EC3-0980-4727-9F59-035638FC53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AAD-894C-405A-AE99-B754C3B016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af 4" descr=""/>
          <p:cNvPicPr/>
          <p:nvPr/>
        </p:nvPicPr>
        <p:blipFill>
          <a:blip r:embed="rId1"/>
          <a:stretch/>
        </p:blipFill>
        <p:spPr>
          <a:xfrm>
            <a:off x="1749600" y="249120"/>
            <a:ext cx="585756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770E-FC51-4246-954D-F58AF7F7F5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DDE-BDE4-4FCD-8AD9-2509D9E791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af 5" descr=""/>
          <p:cNvPicPr/>
          <p:nvPr/>
        </p:nvPicPr>
        <p:blipFill>
          <a:blip r:embed="rId1"/>
          <a:stretch/>
        </p:blipFill>
        <p:spPr>
          <a:xfrm>
            <a:off x="1682640" y="249120"/>
            <a:ext cx="58518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5AC0-D098-43EC-9086-E060338EA0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BDA-4D06-461E-AE86-A752AEA59C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af 5" descr=""/>
          <p:cNvPicPr/>
          <p:nvPr/>
        </p:nvPicPr>
        <p:blipFill>
          <a:blip r:embed="rId1"/>
          <a:stretch/>
        </p:blipFill>
        <p:spPr>
          <a:xfrm>
            <a:off x="1536840" y="249120"/>
            <a:ext cx="599760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dravotní riz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9CB5-D756-478E-95C6-C9268E3266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A5E-D985-42B0-ACF2-78C7782126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I. česko-slovenská k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oprava, zdrav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 životní prostřed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rno,7.-8.11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221-AA4A-4929-BF98-95B0134910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D459-D6AD-40B6-8997-1945D95179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765000"/>
          <a:ext cx="6913800" cy="5253120"/>
        </p:xfrm>
        <a:graphic>
          <a:graphicData uri="http://schemas.openxmlformats.org/drawingml/2006/table">
            <a:tbl>
              <a:tblPr/>
              <a:tblGrid>
                <a:gridCol w="1903320"/>
                <a:gridCol w="1649520"/>
                <a:gridCol w="336600"/>
                <a:gridCol w="1044720"/>
                <a:gridCol w="988920"/>
                <a:gridCol w="990720"/>
              </a:tblGrid>
              <a:tr h="3765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otní riz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O - 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k 20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ováno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e 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UK PAF-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7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z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íl exponovaných osob                            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íl PAF-IM 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 M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 M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154-FB6A-4145-9B66-D98054F8D0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1AD-7BD9-4A45-A63A-150D9E988D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95640" y="333360"/>
          <a:ext cx="4897440" cy="5611680"/>
        </p:xfrm>
        <a:graphic>
          <a:graphicData uri="http://schemas.openxmlformats.org/drawingml/2006/table">
            <a:tbl>
              <a:tblPr/>
              <a:tblGrid>
                <a:gridCol w="2085840"/>
                <a:gridCol w="1405080"/>
                <a:gridCol w="1406520"/>
              </a:tblGrid>
              <a:tr h="4842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otní riz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rušení spánku (H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ováno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57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 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obtěžování 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ováno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7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 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F96-5E88-4659-867F-39C92A7F60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25EE-CDED-4BAB-9A3F-A1E3C512B5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4920" y="62064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HM je důležitý nástroj k odhadu plošného zatížení obyvatelstva hlukem z dopravy a jeho zdravotních důsledků, a tím i podkladem pro formulování národní protihlukové politi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uk ze silniční dopravy zůstává největším dopravním zdrojem hluku (cca z 88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celkového počtu osob exponovaných nad HL je pouze cca 18% exponováno nad MH, tzn. že akční plány protihlukových opatření se vypracovávají jen pro zlomek nadlimitně exponovaných =  MH je zřejmě špatně nastave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iziko vzniku IM z expozice hlukem ze silniční dopravy je cca 40 krát nižší než z ostatních příčin (životní styl, výživa, genetika apod.), přesto není celkový počet osob vystavených tomuto riziku zanedbatelný. Jde zejména o osoby vystavené v chráněném venkovním prostoru staveb hladinám nad 70/60 dB v denní/noční dob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ejně to platí i pro zdravotní rizika vysokého rušení spánku hlukem ze silniční dopra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zanedbatelné není ani zhoršení akustického komfortu v důsledku vysokého obtěžování hlukem v okolí silničních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4C9-BAD9-44F0-ADAC-870E52EEAA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5BE1-8F30-4E18-A7B4-CF3DA431B9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8AE-E926-4D9A-BF2C-8216953E53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959-7FFB-42D7-908E-978B8357BF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44B0-5BEE-4ECB-AA30-B4E8CB4FD9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280" y="981000"/>
            <a:ext cx="80614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Calibri"/>
              </a:rPr>
              <a:t>Výsledky 2.kola strategického hlukového mapování v Č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8"/>
          <p:cNvSpPr/>
          <p:nvPr/>
        </p:nvSpPr>
        <p:spPr>
          <a:xfrm>
            <a:off x="2987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124000" y="3213000"/>
            <a:ext cx="4572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omáš Hellm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a Potužn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vel Ju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mas.hellmu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z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na.potuznik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z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vel.june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zuova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ww.nrl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číslo snímku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821D-6E06-4543-AE9A-39CBDF8EAE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cké hlukové mapování (SH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d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6786-4045-4058-9BA5-100321FE53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311-E2AD-4793-9ADA-139963DF92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325-BBE1-4A01-91ED-8E0FE4D601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6C58-7E10-4533-BA30-6293247E2D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76280"/>
          <a:ext cx="7344000" cy="5330880"/>
        </p:xfrm>
        <a:graphic>
          <a:graphicData uri="http://schemas.openxmlformats.org/drawingml/2006/table">
            <a:tbl>
              <a:tblPr/>
              <a:tblGrid>
                <a:gridCol w="1563840"/>
                <a:gridCol w="1565280"/>
                <a:gridCol w="1404720"/>
                <a:gridCol w="1405080"/>
                <a:gridCol w="1405080"/>
              </a:tblGrid>
              <a:tr h="3841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 - zadá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ěrnice 49/2000/EC o hodnocení a řízení hluku ve venkovním prostře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počtové mapy očekávané zátěže obyvatel hlukem ze stanovených zdrojů hlu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oje a kriter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o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k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k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k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-20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9-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14-2018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lome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is.obyvate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sil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is.vozidel/ro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želez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is.vlaků/ro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letišt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is.pohybů/ro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3258-10E1-46F8-BC8F-77CF916550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942-1871-4B14-9F66-EAABCB9018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32000" y="549360"/>
          <a:ext cx="6696000" cy="4973400"/>
        </p:xfrm>
        <a:graphic>
          <a:graphicData uri="http://schemas.openxmlformats.org/drawingml/2006/table">
            <a:tbl>
              <a:tblPr/>
              <a:tblGrid>
                <a:gridCol w="2033640"/>
                <a:gridCol w="2517480"/>
                <a:gridCol w="1125720"/>
                <a:gridCol w="1019160"/>
              </a:tblGrid>
              <a:tr h="382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ké hlukové mapování – Česká Republ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k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k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lomerace [km</a:t>
                      </a:r>
                      <a:r>
                        <a:rPr b="0" lang="cs-CZ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cs-CZ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r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z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stí nad Labem-Tep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mo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silnice [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železnice [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vní let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ha-Ruzyn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642-59E3-4BAA-B2C6-3F897339B8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9BF-FFC4-46C6-B774-9E3D647881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8502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65F-E714-4B22-A1BC-8859AC85BD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BBE0-8946-4CB0-9EA5-1783A9E685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2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289-9AB7-4A57-BE17-CFA128A1E5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RL pro komunální hl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7D1-2C52-4E9A-BD2F-787820697D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5"/>
          <p:cNvSpPr/>
          <p:nvPr/>
        </p:nvSpPr>
        <p:spPr>
          <a:xfrm>
            <a:off x="1476360" y="333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lukové ukaz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900000" y="1557360"/>
            <a:ext cx="80647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dvn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dB]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těžování hlukem (24h expoz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dB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ušení spánku hlu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1:48:56Z</dcterms:created>
  <dc:creator>tomas.hellmuth</dc:creator>
  <dc:description/>
  <dc:language>en-US</dc:language>
  <cp:lastModifiedBy>tomas.hellmuth</cp:lastModifiedBy>
  <dcterms:modified xsi:type="dcterms:W3CDTF">2016-11-04T07:27:26Z</dcterms:modified>
  <cp:revision>71</cp:revision>
  <dc:subject/>
  <dc:title>Snímek 1</dc:title>
</cp:coreProperties>
</file>