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75AC-378B-4A45-AEA4-F126DB29923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BA66-14C4-449C-AB4B-E9CC5CC0916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AB31-B8AE-4795-A968-229BF903F6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7495-9F67-4A57-AC49-E7C9C7EA52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9BF6-4FDE-4513-8C2A-13EDD33EF5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FE72-6E85-45BB-A76B-98BA0C09B91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27B8-FAFA-4CEF-A634-165EB34C129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0064-3743-49E1-870A-CC62445F69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1B90-6182-46CB-AABB-05724B93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C18-9CD8-4A89-A181-4D3EF1C9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D64-6653-4A67-B803-2F429FB0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CB0-2777-43B5-8008-9638FD08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173F-E604-4828-8912-51C1CB7F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2158-8267-481B-B410-ED9EFC88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98BB-9486-4A56-8F97-4B2445C1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05C6-4E2A-49B0-9DD6-F4717E4F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28C2-7792-43BB-9568-CFE63313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000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FAEB-14C1-4F62-AAF4-B8E52C0A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8D5A-23B3-4578-80E8-672B532B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445-6DCC-42E1-9FAD-5732C7F8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CB2C-DE8C-45B7-B25F-FA33470B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62A4-C865-48A1-A154-AC38E4C5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062C-EAA6-492B-A05F-2A7D59FA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0238-AA5F-49A7-B1A9-D9A7A8DC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DF1C-AD61-46DE-A765-9B6E118A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80D5-9202-4E23-ADAE-E104F886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BF6-1CD0-4C15-AC26-896BC6A3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2CC-BA9F-46C7-99F7-6F4FFA12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F38F-0327-4FA7-B558-91CB9ACE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E3D-3185-4DFA-B06F-1D51810B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88A5-743D-4AD5-9CAA-AF326416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7A0-FBD6-4B02-B612-A11E4830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9640" y="6356520"/>
            <a:ext cx="16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02B6-E3CF-4F62-8E6C-D180AEC6176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6520"/>
            <a:ext cx="303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6356520"/>
            <a:ext cx="195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0AE7-AF16-4685-A86D-2B0691D0CE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99640" y="6356520"/>
            <a:ext cx="16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E2B1-F4B7-4215-A5E4-213E97EB5D2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356520"/>
            <a:ext cx="303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6356520"/>
            <a:ext cx="195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5CBD-3AA9-4C8E-98C8-696583CA1F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ana.potuznikova@zuova.cz" TargetMode="External"/><Relationship Id="rId2" Type="http://schemas.openxmlformats.org/officeDocument/2006/relationships/hyperlink" Target="mailto:dana.potuznikova@zuova.cz" TargetMode="External"/><Relationship Id="rId3" Type="http://schemas.openxmlformats.org/officeDocument/2006/relationships/hyperlink" Target="mailto:dana.potuznikova@zuova.cz" TargetMode="External"/><Relationship Id="rId4" Type="http://schemas.openxmlformats.org/officeDocument/2006/relationships/hyperlink" Target="mailto:dana.potuznikova@zuova.cz" TargetMode="External"/><Relationship Id="rId5" Type="http://schemas.openxmlformats.org/officeDocument/2006/relationships/hyperlink" Target="mailto:dana.potuznikova@zuova.cz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65160"/>
            <a:ext cx="77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II. česko-slovenská ko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Arial"/>
              </a:rPr>
              <a:t>Doprava, zdraví a životní prostřed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rno, CDV, v.v.i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7. - 8.11.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Zástupný symbol pro zápatí 12"/>
          <p:cNvSpPr/>
          <p:nvPr/>
        </p:nvSpPr>
        <p:spPr>
          <a:xfrm>
            <a:off x="3124080" y="6356520"/>
            <a:ext cx="303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ástupný symbol pro číslo snímku 1"/>
          <p:cNvSpPr/>
          <p:nvPr/>
        </p:nvSpPr>
        <p:spPr>
          <a:xfrm>
            <a:off x="6732720" y="6356520"/>
            <a:ext cx="195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F0D1-B950-4E90-A8B7-975770AA5F9D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475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§ 77 odst. 5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00000" y="162864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Arial"/>
                <a:ea typeface="Arial"/>
              </a:rPr>
              <a:t>Neprovede-li   stavebník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dostatečná   opatření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ochraně   před   hlukem, </a:t>
            </a:r>
            <a:r>
              <a:rPr b="1" lang="cs-CZ" sz="2400" spc="-1" strike="noStrike">
                <a:solidFill>
                  <a:srgbClr val="0070c0"/>
                </a:solidFill>
                <a:latin typeface="Arial"/>
                <a:ea typeface="Arial"/>
              </a:rPr>
              <a:t>nemůže žád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aby tato opatření provedl provozovatel, vlastník nebo správce zdroje hluk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To neplatí, dojde-li k prokazatelnému navýšení hluku ze zdroje hluku; co se považuje za prokazatelné navýšení hluku, stanoví prováděcí právní předpis  (NV č. 272/2011 Sb. =&gt; navýšení o &gt;2 dB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3124080" y="6356520"/>
            <a:ext cx="303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1"/>
          <p:cNvSpPr/>
          <p:nvPr/>
        </p:nvSpPr>
        <p:spPr>
          <a:xfrm>
            <a:off x="6732720" y="6356520"/>
            <a:ext cx="195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A380-E696-42A3-B416-59927B96B621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475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§ 77 odst. 5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640" y="1628640"/>
            <a:ext cx="77774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stanovení stanoví, kdo má provést protihluková opatření. Nejde tak o hmotně právní povinnosti provozovatele, správce či vlastníka zdroje hluku či vlastníka chráněné stavby, které jsou předmětem výkonu dozoru podle zákona o ochraně veřejného zdraví (viz § 84 odst. 1 písm. a) zákona) </a:t>
            </a:r>
            <a:r>
              <a:rPr b="0" lang="cs-CZ" sz="2400" spc="-1" strike="noStrike">
                <a:solidFill>
                  <a:srgbClr val="0070c0"/>
                </a:solidFill>
                <a:latin typeface="Arial"/>
                <a:ea typeface="Arial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OVZ nebude kontrolovat realizaci a účinnost  PHO na nově realizovaných chráněných stavbá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zápatí 3"/>
          <p:cNvSpPr/>
          <p:nvPr/>
        </p:nvSpPr>
        <p:spPr>
          <a:xfrm>
            <a:off x="3124080" y="6356520"/>
            <a:ext cx="303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číslo snímku 1"/>
          <p:cNvSpPr/>
          <p:nvPr/>
        </p:nvSpPr>
        <p:spPr>
          <a:xfrm>
            <a:off x="6732720" y="6356520"/>
            <a:ext cx="195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45B9-B0EB-4298-B114-33477E84569D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842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dložení realizace PHO při aplikaci odst.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26560" y="1628640"/>
            <a:ext cx="741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 hlediska stavebního zákona </a:t>
            </a:r>
            <a:r>
              <a:rPr b="1" lang="cs-CZ" sz="2400" spc="-1" strike="noStrike">
                <a:solidFill>
                  <a:srgbClr val="0070c0"/>
                </a:solidFill>
                <a:latin typeface="Arial"/>
                <a:ea typeface="Arial"/>
              </a:rPr>
              <a:t>není možné odložit realizaci PH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do doby kdy bude zdroj hluku (pozemní doprava) zrealizován =&gt; stavební úřad bez provedených PHO nevydá kolaudační souh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zápatí 3"/>
          <p:cNvSpPr/>
          <p:nvPr/>
        </p:nvSpPr>
        <p:spPr>
          <a:xfrm>
            <a:off x="3124080" y="6356520"/>
            <a:ext cx="303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číslo snímku 1"/>
          <p:cNvSpPr/>
          <p:nvPr/>
        </p:nvSpPr>
        <p:spPr>
          <a:xfrm>
            <a:off x="6732720" y="6356520"/>
            <a:ext cx="195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B26E-E2B8-495C-B9E7-2C77560F369E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475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§ 77 odst. 5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71280" y="162864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Řešení stížnosti stavebníka na případné navýšení hluku o &gt; 2dB ze strany  provozovatele zdroje o provedení protihlukových opatření je předmětem </a:t>
            </a:r>
            <a:r>
              <a:rPr b="1" lang="cs-CZ" sz="2400" spc="-1" strike="noStrike">
                <a:solidFill>
                  <a:srgbClr val="0070c0"/>
                </a:solidFill>
                <a:latin typeface="Arial"/>
                <a:ea typeface="Arial"/>
              </a:rPr>
              <a:t>občanskoprávního sporu stavebníka s provozovatelem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dráhy či komunika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ástroje k vymáhání tohoto plnění OOVZ podle zákona č. 258/2000 Sb. nemá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zápatí 3"/>
          <p:cNvSpPr/>
          <p:nvPr/>
        </p:nvSpPr>
        <p:spPr>
          <a:xfrm>
            <a:off x="3124080" y="6356520"/>
            <a:ext cx="303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1"/>
          <p:cNvSpPr/>
          <p:nvPr/>
        </p:nvSpPr>
        <p:spPr>
          <a:xfrm>
            <a:off x="6732720" y="6356520"/>
            <a:ext cx="195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ACEF-B2AC-47E7-9E07-171C38318D8E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842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26560" y="1628640"/>
            <a:ext cx="741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Děkuji za pozor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zápatí 3"/>
          <p:cNvSpPr/>
          <p:nvPr/>
        </p:nvSpPr>
        <p:spPr>
          <a:xfrm>
            <a:off x="3124080" y="6356520"/>
            <a:ext cx="303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číslo snímku 1"/>
          <p:cNvSpPr/>
          <p:nvPr/>
        </p:nvSpPr>
        <p:spPr>
          <a:xfrm>
            <a:off x="6732720" y="6356520"/>
            <a:ext cx="195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4BD5-9274-4581-A3FA-F06F2CA9E219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Arial"/>
                <a:ea typeface="Arial"/>
              </a:rPr>
              <a:t>Novela předpisů v ochraně veřejného zdraví před hlukem v prax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71640" y="4005360"/>
            <a:ext cx="734544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Dana Potužník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Tomáš Hellmu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ea typeface="Arial"/>
                <a:hlinkClick r:id="rId1"/>
              </a:rPr>
              <a:t>d</a:t>
            </a:r>
            <a:r>
              <a:rPr b="0" lang="cs-CZ" sz="2400" spc="-1" strike="noStrike" u="sng">
                <a:solidFill>
                  <a:srgbClr val="00a3d6"/>
                </a:solidFill>
                <a:uFillTx/>
                <a:latin typeface="Arial"/>
                <a:ea typeface="Arial"/>
                <a:hlinkClick r:id="rId2"/>
              </a:rPr>
              <a:t>ana.potuznikova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ea typeface="Arial"/>
                <a:hlinkClick r:id="rId3"/>
              </a:rPr>
              <a:t>@zu</a:t>
            </a:r>
            <a:r>
              <a:rPr b="0" lang="cs-CZ" sz="2400" spc="-1" strike="noStrike" u="sng">
                <a:solidFill>
                  <a:srgbClr val="00a3d6"/>
                </a:solidFill>
                <a:uFillTx/>
                <a:latin typeface="Arial"/>
                <a:ea typeface="Arial"/>
                <a:hlinkClick r:id="rId4"/>
              </a:rPr>
              <a:t>ova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ea typeface="Arial"/>
                <a:hlinkClick r:id="rId5"/>
              </a:rPr>
              <a:t>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www.nrl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rl.hlu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@z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zápatí 4"/>
          <p:cNvSpPr/>
          <p:nvPr/>
        </p:nvSpPr>
        <p:spPr>
          <a:xfrm>
            <a:off x="3124080" y="6356520"/>
            <a:ext cx="303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číslo snímku 5"/>
          <p:cNvSpPr/>
          <p:nvPr/>
        </p:nvSpPr>
        <p:spPr>
          <a:xfrm>
            <a:off x="6732720" y="6356520"/>
            <a:ext cx="195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DDEB-6360-47E9-8F12-25666E2A1AA8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55820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70c0"/>
                </a:solidFill>
                <a:latin typeface="Arial"/>
                <a:ea typeface="Arial"/>
              </a:rPr>
              <a:t>Zákon č. 258/2000 Sb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cs-CZ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 ochraně veřejného zdraví    a o změně některých souvisejících předpisů, ve znění pozdějších předpisů </a:t>
            </a:r>
            <a:br>
              <a:rPr sz="2400"/>
            </a:br>
            <a:r>
              <a:rPr b="0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novela platná od 1.12.2015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70c0"/>
                </a:solidFill>
                <a:latin typeface="Arial"/>
                <a:ea typeface="Arial"/>
              </a:rPr>
              <a:t>Nařízení vlády č. 272/2011 Sb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o ochraně zdraví před nepříznivými účinky hluku a vibrací, ve znění pozdějších předpisů</a:t>
            </a:r>
            <a:br>
              <a:rPr sz="2400"/>
            </a:br>
            <a:r>
              <a:rPr b="0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novela platná od 30.7.2016</a:t>
            </a:r>
            <a:br>
              <a:rPr sz="2400"/>
            </a:br>
            <a:br>
              <a:rPr sz="29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26920" y="6021360"/>
            <a:ext cx="7345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Arial"/>
                <a:ea typeface="Arial"/>
              </a:rPr>
              <a:t>NRL pro komunální hlu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bdélník 3"/>
          <p:cNvSpPr/>
          <p:nvPr/>
        </p:nvSpPr>
        <p:spPr>
          <a:xfrm>
            <a:off x="1332000" y="62064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elizované předpi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ástupný symbol pro zápatí 6"/>
          <p:cNvSpPr/>
          <p:nvPr/>
        </p:nvSpPr>
        <p:spPr>
          <a:xfrm>
            <a:off x="3124080" y="6356520"/>
            <a:ext cx="303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ástupný symbol pro číslo snímku 7"/>
          <p:cNvSpPr/>
          <p:nvPr/>
        </p:nvSpPr>
        <p:spPr>
          <a:xfrm>
            <a:off x="6732720" y="6356520"/>
            <a:ext cx="195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2B75-F193-42F1-A43A-AB5F684929C5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1557000"/>
            <a:ext cx="720072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cs-CZ" sz="2400" spc="-1" strike="noStrike">
                <a:solidFill>
                  <a:srgbClr val="0070c0"/>
                </a:solidFill>
                <a:latin typeface="Arial"/>
                <a:ea typeface="Arial"/>
              </a:rPr>
              <a:t>§ 77, odst. 2 až 5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=   umisťování a ochrana staveb před hlukem při       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    umisťování ke zdrojům hluku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-   dosud byla povinnost ochrany vždy na straně  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   vlastníka či provozovatele zdroje hluku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-    nově tzv. </a:t>
            </a:r>
            <a:r>
              <a:rPr b="1" lang="cs-CZ" sz="2400" spc="-1" strike="noStrike">
                <a:solidFill>
                  <a:srgbClr val="0070c0"/>
                </a:solidFill>
                <a:latin typeface="Arial"/>
                <a:ea typeface="Arial"/>
              </a:rPr>
              <a:t>priorita v území = chrání ten, kdo </a:t>
            </a:r>
            <a:br>
              <a:rPr sz="2400"/>
            </a:br>
            <a:r>
              <a:rPr b="1" lang="cs-CZ" sz="2400" spc="-1" strike="noStrike">
                <a:solidFill>
                  <a:srgbClr val="0070c0"/>
                </a:solidFill>
                <a:latin typeface="Arial"/>
                <a:ea typeface="Arial"/>
              </a:rPr>
              <a:t>     vstupuje do území jako druhý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9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26920" y="6021360"/>
            <a:ext cx="7345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Arial"/>
                <a:ea typeface="Arial"/>
              </a:rPr>
              <a:t>NRL pro komunální hlu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bdélník 3"/>
          <p:cNvSpPr/>
          <p:nvPr/>
        </p:nvSpPr>
        <p:spPr>
          <a:xfrm>
            <a:off x="1332000" y="62064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č. 258/2000 S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ástupný symbol pro zápatí 6"/>
          <p:cNvSpPr/>
          <p:nvPr/>
        </p:nvSpPr>
        <p:spPr>
          <a:xfrm>
            <a:off x="3124080" y="6356520"/>
            <a:ext cx="303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ástupný symbol pro číslo snímku 7"/>
          <p:cNvSpPr/>
          <p:nvPr/>
        </p:nvSpPr>
        <p:spPr>
          <a:xfrm>
            <a:off x="6732720" y="6356520"/>
            <a:ext cx="195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23F8-DBDE-4628-870D-2CF239A7A05B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1557000"/>
            <a:ext cx="720072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cs-CZ" sz="2400" spc="-1" strike="noStrike">
                <a:solidFill>
                  <a:srgbClr val="0070c0"/>
                </a:solidFill>
                <a:latin typeface="Arial"/>
                <a:ea typeface="Arial"/>
              </a:rPr>
              <a:t>Umístění RD ke zdroji hluku z pozemní dopravy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neb co všechno musí stavebník předložit OOVZ, vstupuje-li do území zatíženého hlukem, nebo          k záměru u kterého lze důvodně předpokládat, že bude zdrojem hluku a vibrací ..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9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3"/>
          <p:cNvSpPr/>
          <p:nvPr/>
        </p:nvSpPr>
        <p:spPr>
          <a:xfrm>
            <a:off x="1332000" y="62064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§ 77, odst. 2 až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10" name="Zástupný symbol pro zápatí 5"/>
          <p:cNvSpPr/>
          <p:nvPr/>
        </p:nvSpPr>
        <p:spPr>
          <a:xfrm>
            <a:off x="3124080" y="6356520"/>
            <a:ext cx="303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číslo snímku 6"/>
          <p:cNvSpPr/>
          <p:nvPr/>
        </p:nvSpPr>
        <p:spPr>
          <a:xfrm>
            <a:off x="6732720" y="6356520"/>
            <a:ext cx="195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B1DC-7CA2-4D74-A820-9CF9039B9469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1640" y="549360"/>
            <a:ext cx="6119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Co musí stavebník předložit OOV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jistit, zda  území je zatíženo hluk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= zajistit akustické posou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území zatíženém hlukem navrhnout PH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zhledem k hodnotám H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symbol pro zápatí 9"/>
          <p:cNvSpPr/>
          <p:nvPr/>
        </p:nvSpPr>
        <p:spPr>
          <a:xfrm>
            <a:off x="3124080" y="6356520"/>
            <a:ext cx="303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ástupný symbol pro číslo snímku 1"/>
          <p:cNvSpPr/>
          <p:nvPr/>
        </p:nvSpPr>
        <p:spPr>
          <a:xfrm>
            <a:off x="6732720" y="6356520"/>
            <a:ext cx="195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790F-ABAC-4985-8BCE-1ACDEC7908F3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jistit, zda  území je zatíženo hlukem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 a)  zdroj neexistuje, ale je zanesen do platné ÚPD (odst.2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 b)  zdroj existuje (odst.4)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ajistit akustické posouzení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 a)  výpočet z údajů poskytnutých budoucím 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      vlastníkem či provozovatelem (ŘSD, KÚ, SŽDC; ne  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      starší 9  měsíců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 b)  výpočet =&gt; území není zatížené hlukem (&gt;3 dB pod HL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=&gt; </a:t>
            </a:r>
            <a:r>
              <a:rPr b="1" lang="cs-CZ" sz="2400" spc="-1" strike="noStrike">
                <a:solidFill>
                  <a:srgbClr val="0070c0"/>
                </a:solidFill>
                <a:latin typeface="Arial"/>
                <a:ea typeface="Arial"/>
              </a:rPr>
              <a:t>území je zatížené hlukem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&lt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3 dB pod HL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= měření hluku dle platných metodik</a:t>
            </a:r>
            <a:br>
              <a:rPr sz="2400"/>
            </a:br>
            <a:br>
              <a:rPr sz="29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1332000" y="62064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§ 77, odst. 2 až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pro zápatí 5"/>
          <p:cNvSpPr/>
          <p:nvPr/>
        </p:nvSpPr>
        <p:spPr>
          <a:xfrm>
            <a:off x="3124080" y="6356520"/>
            <a:ext cx="303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číslo snímku 6"/>
          <p:cNvSpPr/>
          <p:nvPr/>
        </p:nvSpPr>
        <p:spPr>
          <a:xfrm>
            <a:off x="6732720" y="6356520"/>
            <a:ext cx="195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46C5-0D2D-448E-88BD-B2438CDF113F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9640" y="1557000"/>
            <a:ext cx="770436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L pro hluk z pozemní dopravy nabývají hodnot  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eq,16h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= 55, 60, 65 a 70 dB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 zjištění na jaké hodnot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eq,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á stavebník navrhnout opatření k ochraně před hlukem musí zjistit, zda se jedná o silnici či dráhu s </a:t>
            </a:r>
            <a:r>
              <a:rPr b="1" lang="cs-CZ" sz="2400" spc="-1" strike="noStrike">
                <a:solidFill>
                  <a:srgbClr val="0070c0"/>
                </a:solidFill>
                <a:latin typeface="Arial"/>
                <a:ea typeface="Arial"/>
              </a:rPr>
              <a:t>korekcí na  SHZ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=&gt; musí zjistit hluk k rozhodnému datu 1.1.2001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700"/>
            </a:br>
            <a:r>
              <a:rPr b="0" lang="cs-CZ" sz="27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bdélník 3"/>
          <p:cNvSpPr/>
          <p:nvPr/>
        </p:nvSpPr>
        <p:spPr>
          <a:xfrm>
            <a:off x="1332000" y="62064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tanovení HL dle NV č. 272/2011 S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ástupný symbol pro zápatí 3"/>
          <p:cNvSpPr/>
          <p:nvPr/>
        </p:nvSpPr>
        <p:spPr>
          <a:xfrm>
            <a:off x="3124080" y="6356520"/>
            <a:ext cx="303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ástupný symbol pro číslo snímku 4"/>
          <p:cNvSpPr/>
          <p:nvPr/>
        </p:nvSpPr>
        <p:spPr>
          <a:xfrm>
            <a:off x="6732720" y="6356520"/>
            <a:ext cx="195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D797-FED0-42FB-A094-34507A028D4D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475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ilnice nebo dráha – se S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640" y="1628640"/>
            <a:ext cx="807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de o ochranu zdraví při umisťování nové výstav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epoužije se HL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eq,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= 70/60 dB, který se vztahuje na „staré“ situace – SHZ (1.1.20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užije se HL, který odpovídá situaci po ukončení režimu S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átěž 65/55 – 70/60 dB, není dlouhodobě přípustn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átěž &gt; 70/60 dB je nepřípustná (vysoká zdravotní rizika)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Stavebník se chrání na HL max. 65/55 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zápatí 9"/>
          <p:cNvSpPr/>
          <p:nvPr/>
        </p:nvSpPr>
        <p:spPr>
          <a:xfrm>
            <a:off x="3124080" y="6356520"/>
            <a:ext cx="303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pro číslo snímku 1"/>
          <p:cNvSpPr/>
          <p:nvPr/>
        </p:nvSpPr>
        <p:spPr>
          <a:xfrm>
            <a:off x="6732720" y="6356520"/>
            <a:ext cx="195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4CE9-12A5-4FCA-863A-B4AC6AEF69E7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3T08:15:39Z</dcterms:created>
  <dc:creator>Dana Potužníková</dc:creator>
  <dc:description/>
  <dc:language>en-US</dc:language>
  <cp:lastModifiedBy>Potužníková Dana</cp:lastModifiedBy>
  <dcterms:modified xsi:type="dcterms:W3CDTF">2016-11-07T07:42:08Z</dcterms:modified>
  <cp:revision>40</cp:revision>
  <dc:subject/>
  <dc:title>Novela předpisů v ochraně veřejného zdraví před hlukem v praxi</dc:title>
</cp:coreProperties>
</file>