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EEF-2E33-4792-B4D3-5DDF2729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8E2-193F-4F99-A7D3-0AD15C8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3DD-70AD-410A-B6E4-A0D24DDE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A42-AC25-4E49-81DA-6327B611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086-18B5-4935-9D89-0CA1A0F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B31-10B0-48EF-842F-0B083853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EBA-D0C0-44D3-B467-2ABF228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2BD-4F0F-4514-9B1E-99BCBEF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4AB-BBE2-495F-BEC9-7CF65240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790-C977-4CC5-9191-211D77C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40F-9EC7-4473-9B67-B20C58E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8D6-45A9-465B-ADCD-E8A6725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8AA1-360E-487F-9801-002F0912C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22"/>
          <p:cNvSpPr/>
          <p:nvPr/>
        </p:nvSpPr>
        <p:spPr>
          <a:xfrm>
            <a:off x="318960" y="549360"/>
            <a:ext cx="78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77933c"/>
                </a:solidFill>
                <a:latin typeface="Arial"/>
                <a:ea typeface="Arial"/>
              </a:rPr>
              <a:t>Průchdnost dopravní infrastruktury pro volně žijící živočic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6"/>
          <p:cNvSpPr/>
          <p:nvPr/>
        </p:nvSpPr>
        <p:spPr>
          <a:xfrm>
            <a:off x="611280" y="2924280"/>
            <a:ext cx="58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Mgr. Ivo Dostál</a:t>
            </a:r>
            <a:br>
              <a:rPr sz="2400"/>
            </a:b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Mgr. Marek Havlíček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logo EHP"/>
          <p:cNvPicPr/>
          <p:nvPr/>
        </p:nvPicPr>
        <p:blipFill>
          <a:blip r:embed="rId2"/>
          <a:stretch/>
        </p:blipFill>
        <p:spPr>
          <a:xfrm>
            <a:off x="324000" y="51577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2411280" y="5562720"/>
            <a:ext cx="6408720" cy="703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Projekt „Komplexní přístup k ochraně fauny terestrických ekosystémů před fragmentací krajiny v ČR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250920" y="1557360"/>
            <a:ext cx="87138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jení starší databáze objektů AOPK (2002 až 2005), poznatků z různých terénních šetření prováděných CDV (2001 až 2012) a doplnění potenciálně vhodných migračních objektů na nově zprovozněných úsecích silniční sítě s využitím údajů databáze mostních prohlídek BMS (Bridge Management System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sah mapovaných komunikací dle předchozí prezentace (bez plánovaných komunikac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ální požadavek na průchod pro větší savce (šířka 12 m a světlá výška 3 m při délce průchodu 25 m - index průchodnosti 1,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ívá se dále v projektu při vymezování migračního biotopu v rámci vrstvy biotopů vybraných zvláště chráněných druh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stup pro analýzu konfliktních bodů zelené a dopravní infrastruktury a návrhu optimalizace stávajících ob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Nadpis 1"/>
          <p:cNvSpPr/>
          <p:nvPr/>
        </p:nvSpPr>
        <p:spPr>
          <a:xfrm>
            <a:off x="324000" y="614520"/>
            <a:ext cx="849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Objekty na D a vícepruhových komunikacích v ČR potenciálně vhodné pro migr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311040" y="65160"/>
            <a:ext cx="863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26. 9. 2016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Prah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délník 2"/>
          <p:cNvSpPr/>
          <p:nvPr/>
        </p:nvSpPr>
        <p:spPr>
          <a:xfrm>
            <a:off x="395280" y="1628640"/>
            <a:ext cx="820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kty s průchodností „A“ (pro velké savce): 122 objektů z toho 14 nadcho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439560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Obrázek 5" descr=""/>
          <p:cNvPicPr/>
          <p:nvPr/>
        </p:nvPicPr>
        <p:blipFill>
          <a:blip r:embed="rId2"/>
          <a:stretch/>
        </p:blipFill>
        <p:spPr>
          <a:xfrm>
            <a:off x="5045040" y="3467160"/>
            <a:ext cx="378288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Nadpis 1"/>
          <p:cNvSpPr/>
          <p:nvPr/>
        </p:nvSpPr>
        <p:spPr>
          <a:xfrm>
            <a:off x="331920" y="614520"/>
            <a:ext cx="849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Objekty na D a vícepruhových komunikacích v ČR potenciálně vhodné pro migr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ázek 6" descr="L:\O22\TMP\Leos\NORSKO_MAPY\map_vyst\Prehledka_pruchody_A4_500dpi.jpg"/>
          <p:cNvPicPr/>
          <p:nvPr/>
        </p:nvPicPr>
        <p:blipFill>
          <a:blip r:embed="rId1"/>
          <a:stretch/>
        </p:blipFill>
        <p:spPr>
          <a:xfrm>
            <a:off x="611280" y="473040"/>
            <a:ext cx="7959600" cy="547056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Nadpis 1"/>
          <p:cNvSpPr/>
          <p:nvPr/>
        </p:nvSpPr>
        <p:spPr>
          <a:xfrm>
            <a:off x="108000" y="549360"/>
            <a:ext cx="8964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etodika pro identifikaci a hodnocení potenciálních střetů zelené a dopravní infrastruk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délník 1"/>
          <p:cNvSpPr/>
          <p:nvPr/>
        </p:nvSpPr>
        <p:spPr>
          <a:xfrm>
            <a:off x="209520" y="1557360"/>
            <a:ext cx="8632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ložena na zkoumání prostorových vazeb a vztahů stávající i navrhované zelené infrastruktury krajiny (ekologické sítě) a dopravní infrastruk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íl nalézt konkrétní lokality křížení ekologických sítí (zelené infrastruktury) a dopravní infrastruktury, které je nutné přednostně řešit z pohledu zachování co nejvyšší míry soudržnosti zelené infrastruk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ístup k hodnocen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a vstupních dat (GIS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mezení řešené ekologické sítě (aktuální stav, plánovaný sta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mezení řešené dopravní infrastruktury (aktuální stav, plánovaný stav) včetně významných parametrů charakterizujících daný úsek z pohledu míry jeho bariérového efektu (intenzita provozu, šířka komunikace, počet jízdních pruhů, doprovodné technické objekty /např. oplocení/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délník 8"/>
          <p:cNvSpPr/>
          <p:nvPr/>
        </p:nvSpPr>
        <p:spPr>
          <a:xfrm>
            <a:off x="209520" y="1557360"/>
            <a:ext cx="8632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efinice sítě konfliktních bodů - analýza překryvu jednotlivých vrstev v závislosti na požadovaných indikátorech daných vlastnostmi dopravní infrastruktury a dané ekologické sí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novení závažnosti konfliktu v jednotlivých bodech - hodnocení míry bariérového efektu, probíhá samostatně pro jednotlivé konfliktní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tegorizace konfliktních bodů – stanovení skupin bodů dle závažnosti potenciálního konfliktu, interpretace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 následné kroky 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vrh nápravných opatření v místech s vysokou mírou závažnosti konfliktu s cílem nápravy (zlepšení) aktuálního sta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vrh zařazení navrhovaných opatření do rozhodovacích procesů, příp. zavedení limitů využití území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9"/>
          <p:cNvSpPr/>
          <p:nvPr/>
        </p:nvSpPr>
        <p:spPr>
          <a:xfrm>
            <a:off x="193680" y="3429000"/>
            <a:ext cx="86342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Nadpis 1"/>
          <p:cNvSpPr/>
          <p:nvPr/>
        </p:nvSpPr>
        <p:spPr>
          <a:xfrm>
            <a:off x="104760" y="549360"/>
            <a:ext cx="8964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etodika pro identifikaci a hodnocení potenciálních střetů zelené a dopravní infrastruk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bdélník 8"/>
          <p:cNvSpPr/>
          <p:nvPr/>
        </p:nvSpPr>
        <p:spPr>
          <a:xfrm>
            <a:off x="209520" y="1557360"/>
            <a:ext cx="86328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Kritéria vstupující do hodnocení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bývá v každém bodě hodnocení v intervalu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0;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íra rezistence komunikace – stavebně-technické 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íra rezistence komunikace – intenzita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environmentální index (vhodnost území pro migra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íra ostatního antropogenního ru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šířka migračního korid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ítigační opatření podporující migraci – existence průchodu v určité kvali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umulace bariér (zohlednění ostatních bariér v okolí konfliktního bodu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bdélník 9"/>
          <p:cNvSpPr/>
          <p:nvPr/>
        </p:nvSpPr>
        <p:spPr>
          <a:xfrm>
            <a:off x="193680" y="3429000"/>
            <a:ext cx="86342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Nadpis 1"/>
          <p:cNvSpPr/>
          <p:nvPr/>
        </p:nvSpPr>
        <p:spPr>
          <a:xfrm>
            <a:off x="104760" y="549360"/>
            <a:ext cx="8964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etodika pro identifikaci a hodnocení potenciálních střetů zelené a dopravní infrastruk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délník 8"/>
          <p:cNvSpPr/>
          <p:nvPr/>
        </p:nvSpPr>
        <p:spPr>
          <a:xfrm>
            <a:off x="195120" y="1700280"/>
            <a:ext cx="86328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Výsledné koeficienty pro celkové hodnocení jednotlivých konfliktních bod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bývá hodnocení v intervalu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0;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 – je tvořen koeficientem RES s mírným zohledněním šířky koridoru v daném místě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 = RES + k * KOR * (1 - 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B – rozšiřuje A navíc o vliv okolního prostředí, tedy kvalitu migračního biotopu a míru rušení ostatními antropogenními prv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bdélník 9"/>
          <p:cNvSpPr/>
          <p:nvPr/>
        </p:nvSpPr>
        <p:spPr>
          <a:xfrm>
            <a:off x="193680" y="3429000"/>
            <a:ext cx="86342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Nadpis 1"/>
          <p:cNvSpPr/>
          <p:nvPr/>
        </p:nvSpPr>
        <p:spPr>
          <a:xfrm>
            <a:off x="104760" y="549360"/>
            <a:ext cx="8964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etodika pro identifikaci a hodnocení potenciálních střetů zelené a dopravní infrastruk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rázek 1" descr=""/>
          <p:cNvPicPr/>
          <p:nvPr/>
        </p:nvPicPr>
        <p:blipFill>
          <a:blip r:embed="rId1"/>
          <a:stretch/>
        </p:blipFill>
        <p:spPr>
          <a:xfrm>
            <a:off x="1336680" y="4508640"/>
            <a:ext cx="6033960" cy="11523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délník 8"/>
          <p:cNvSpPr/>
          <p:nvPr/>
        </p:nvSpPr>
        <p:spPr>
          <a:xfrm>
            <a:off x="193680" y="1681200"/>
            <a:ext cx="8632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 – rozšiřuje B navíc o přijatá mítigační (zmírňující) opatř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C = B * (1 - MI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9"/>
          <p:cNvSpPr/>
          <p:nvPr/>
        </p:nvSpPr>
        <p:spPr>
          <a:xfrm>
            <a:off x="193680" y="3429000"/>
            <a:ext cx="86342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Nadpis 1"/>
          <p:cNvSpPr/>
          <p:nvPr/>
        </p:nvSpPr>
        <p:spPr>
          <a:xfrm>
            <a:off x="104760" y="549360"/>
            <a:ext cx="8964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etodika pro identifikaci a hodnocení potenciálních střetů zelené a dopravní infrastruk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bdélník 8"/>
          <p:cNvSpPr/>
          <p:nvPr/>
        </p:nvSpPr>
        <p:spPr>
          <a:xfrm>
            <a:off x="195120" y="3417840"/>
            <a:ext cx="8632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ýsledné hodnocení pomocí koeficientu „C“ umožňuje danou skupinu aktuálně existujících konfliktních míst seřadit podle bodového hodnocení, přičemž platí, že čím bližší hodnocení směrem k hodnotě 1, tím závažnější míra konflik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ostup výpočtu byl odladěn a optimalizován pro střety připravované Vrstvy biotopů vybraných zvláště chráněných druhů s nadřazenou silniční sí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bdélník 9"/>
          <p:cNvSpPr/>
          <p:nvPr/>
        </p:nvSpPr>
        <p:spPr>
          <a:xfrm>
            <a:off x="193680" y="3429000"/>
            <a:ext cx="86342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D:\XWork\Norsko\texty\konfl\konflikty2.png"/>
          <p:cNvPicPr/>
          <p:nvPr/>
        </p:nvPicPr>
        <p:blipFill>
          <a:blip r:embed="rId1"/>
          <a:stretch/>
        </p:blipFill>
        <p:spPr>
          <a:xfrm>
            <a:off x="69840" y="476280"/>
            <a:ext cx="8929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Nadpis 1"/>
          <p:cNvSpPr/>
          <p:nvPr/>
        </p:nvSpPr>
        <p:spPr>
          <a:xfrm>
            <a:off x="539640" y="2205000"/>
            <a:ext cx="472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48a54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ovéPole 4"/>
          <p:cNvSpPr/>
          <p:nvPr/>
        </p:nvSpPr>
        <p:spPr>
          <a:xfrm>
            <a:off x="539640" y="2997360"/>
            <a:ext cx="507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Mgr. 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Ivo Dost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ivo.dostal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1 641 3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546120" y="422100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+420 541 641 711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email: 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rázek 3" descr="logo EHP"/>
          <p:cNvPicPr/>
          <p:nvPr/>
        </p:nvPicPr>
        <p:blipFill>
          <a:blip r:embed="rId1"/>
          <a:stretch/>
        </p:blipFill>
        <p:spPr>
          <a:xfrm>
            <a:off x="5867280" y="69372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Migrační barié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1"/>
          <p:cNvSpPr/>
          <p:nvPr/>
        </p:nvSpPr>
        <p:spPr>
          <a:xfrm>
            <a:off x="468360" y="1488960"/>
            <a:ext cx="8280360" cy="530280"/>
          </a:xfrm>
          <a:prstGeom prst="rect">
            <a:avLst/>
          </a:prstGeom>
          <a:solidFill>
            <a:srgbClr val="8cbbd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y v krajině bránící volnému pohybu živočich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ovéPole 1"/>
          <p:cNvSpPr/>
          <p:nvPr/>
        </p:nvSpPr>
        <p:spPr>
          <a:xfrm>
            <a:off x="250920" y="3860640"/>
            <a:ext cx="8675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ůchodno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průchodné X částečně průchodné X s nízkým odpo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1"/>
          <p:cNvSpPr/>
          <p:nvPr/>
        </p:nvSpPr>
        <p:spPr>
          <a:xfrm>
            <a:off x="250920" y="5011560"/>
            <a:ext cx="8675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asové hledisk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časné X trval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250920" y="2565360"/>
            <a:ext cx="86756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ův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írodní X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ropogen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1857240" cy="25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209520" y="1341360"/>
            <a:ext cx="61628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važují struktury antropogenního pův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lnice a dál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želez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odní toky a plo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9"/>
          <p:cNvSpPr/>
          <p:nvPr/>
        </p:nvSpPr>
        <p:spPr>
          <a:xfrm>
            <a:off x="5651640" y="4005360"/>
            <a:ext cx="28080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loty a ohrad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sí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ezles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umulace barié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XWork_k_uklidu\Clanek_Chriby\Fragmentace_2013\_MG_3841x.jpg"/>
          <p:cNvPicPr/>
          <p:nvPr/>
        </p:nvPicPr>
        <p:blipFill>
          <a:blip r:embed="rId2"/>
          <a:stretch/>
        </p:blipFill>
        <p:spPr>
          <a:xfrm>
            <a:off x="1332000" y="4653000"/>
            <a:ext cx="341784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Typologie barié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5" descr="_MG_2892"/>
          <p:cNvPicPr/>
          <p:nvPr/>
        </p:nvPicPr>
        <p:blipFill>
          <a:blip r:embed="rId3"/>
          <a:stretch/>
        </p:blipFill>
        <p:spPr>
          <a:xfrm>
            <a:off x="2627280" y="3357720"/>
            <a:ext cx="2736720" cy="166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Obrázek 2" descr=""/>
          <p:cNvPicPr/>
          <p:nvPr/>
        </p:nvPicPr>
        <p:blipFill>
          <a:blip r:embed="rId4"/>
          <a:stretch/>
        </p:blipFill>
        <p:spPr>
          <a:xfrm>
            <a:off x="250920" y="3284640"/>
            <a:ext cx="18716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4" descr=""/>
          <p:cNvPicPr/>
          <p:nvPr/>
        </p:nvPicPr>
        <p:blipFill>
          <a:blip r:embed="rId5"/>
          <a:stretch/>
        </p:blipFill>
        <p:spPr>
          <a:xfrm>
            <a:off x="4427640" y="1916280"/>
            <a:ext cx="2887560" cy="171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9"/>
          <p:cNvSpPr/>
          <p:nvPr/>
        </p:nvSpPr>
        <p:spPr>
          <a:xfrm>
            <a:off x="324000" y="1916280"/>
            <a:ext cx="51544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běr trasy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ategorie komunikace a stavebně-technické uspořád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nzita a charakter provo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Silnice a dál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28680" y="1341360"/>
            <a:ext cx="4938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ariérový vliv je definován aspek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6" descr="_MG_2918"/>
          <p:cNvPicPr/>
          <p:nvPr/>
        </p:nvPicPr>
        <p:blipFill>
          <a:blip r:embed="rId1"/>
          <a:stretch/>
        </p:blipFill>
        <p:spPr>
          <a:xfrm>
            <a:off x="395280" y="3860640"/>
            <a:ext cx="5329080" cy="20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Obrázek 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67344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9"/>
          <p:cNvSpPr/>
          <p:nvPr/>
        </p:nvSpPr>
        <p:spPr>
          <a:xfrm>
            <a:off x="250920" y="1557360"/>
            <a:ext cx="871380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ategorie komunikace předurčuje její stavebně-technické uspořád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jvyšší bariérový efekt – vícepruhové silnice – dálnice, rychlostní silnice a některé I. třídy – D28,5; R24,5; S2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 nižších kategorií v závislosti na lokálních podmínk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Silnice a dálnice – kategor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1" descr="_MG_3051"/>
          <p:cNvPicPr/>
          <p:nvPr/>
        </p:nvPicPr>
        <p:blipFill>
          <a:blip r:embed="rId1"/>
          <a:stretch/>
        </p:blipFill>
        <p:spPr>
          <a:xfrm>
            <a:off x="324000" y="3584520"/>
            <a:ext cx="3671640" cy="22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TextovéPole 9"/>
          <p:cNvSpPr/>
          <p:nvPr/>
        </p:nvSpPr>
        <p:spPr>
          <a:xfrm>
            <a:off x="4211640" y="3573360"/>
            <a:ext cx="460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esílení bariérového efektu doprovodnými objekty: PHS, svodidla, opěrné zdi, záře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4284720" y="4797360"/>
            <a:ext cx="468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eslabení – průchody: mosty, propustky, nadchody a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9"/>
          <p:cNvSpPr/>
          <p:nvPr/>
        </p:nvSpPr>
        <p:spPr>
          <a:xfrm>
            <a:off x="250920" y="1557360"/>
            <a:ext cx="849636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vádění dopravních koridorů do doposud nenarušených obla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dměrná kumulace dílčích barié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ímé a nepřímé narušení ekologických sí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Silnice a dálnice – výběr tr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Img_5325"/>
          <p:cNvPicPr/>
          <p:nvPr/>
        </p:nvPicPr>
        <p:blipFill>
          <a:blip r:embed="rId1"/>
          <a:stretch/>
        </p:blipFill>
        <p:spPr>
          <a:xfrm>
            <a:off x="2124000" y="3429000"/>
            <a:ext cx="4533840" cy="23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Nadpis 1"/>
          <p:cNvSpPr/>
          <p:nvPr/>
        </p:nvSpPr>
        <p:spPr>
          <a:xfrm>
            <a:off x="755640" y="620640"/>
            <a:ext cx="7427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Silnice a dálnice –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Untitled-1"/>
          <p:cNvPicPr/>
          <p:nvPr/>
        </p:nvPicPr>
        <p:blipFill>
          <a:blip r:embed="rId1"/>
          <a:stretch/>
        </p:blipFill>
        <p:spPr>
          <a:xfrm>
            <a:off x="684360" y="1125360"/>
            <a:ext cx="7056360" cy="478476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Nadpis 1"/>
          <p:cNvSpPr/>
          <p:nvPr/>
        </p:nvSpPr>
        <p:spPr>
          <a:xfrm>
            <a:off x="755640" y="620640"/>
            <a:ext cx="742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47760" y="1523160"/>
            <a:ext cx="65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tistika zmapovaných úseků vícepruhových komunikací v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11040" y="1922400"/>
          <a:ext cx="8364600" cy="1306440"/>
        </p:xfrm>
        <a:graphic>
          <a:graphicData uri="http://schemas.openxmlformats.org/drawingml/2006/table">
            <a:tbl>
              <a:tblPr/>
              <a:tblGrid>
                <a:gridCol w="3108600"/>
                <a:gridCol w="1439640"/>
                <a:gridCol w="1800360"/>
                <a:gridCol w="2016000"/>
              </a:tblGrid>
              <a:tr h="35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provoz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nova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lnice (a bývalé rychlostní siln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atní vícepruhové 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8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36"/>
          <p:cNvSpPr/>
          <p:nvPr/>
        </p:nvSpPr>
        <p:spPr>
          <a:xfrm>
            <a:off x="0" y="429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Nadpis 1"/>
          <p:cNvSpPr/>
          <p:nvPr/>
        </p:nvSpPr>
        <p:spPr>
          <a:xfrm>
            <a:off x="755640" y="476280"/>
            <a:ext cx="742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Statistika vícepruhových komunik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_MG_3051"/>
          <p:cNvPicPr/>
          <p:nvPr/>
        </p:nvPicPr>
        <p:blipFill>
          <a:blip r:embed="rId1"/>
          <a:stretch/>
        </p:blipFill>
        <p:spPr>
          <a:xfrm>
            <a:off x="4897440" y="3465360"/>
            <a:ext cx="375912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Obrázek 2" descr=""/>
          <p:cNvPicPr/>
          <p:nvPr/>
        </p:nvPicPr>
        <p:blipFill>
          <a:blip r:embed="rId2"/>
          <a:stretch/>
        </p:blipFill>
        <p:spPr>
          <a:xfrm>
            <a:off x="311040" y="3465360"/>
            <a:ext cx="3970440" cy="22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Nadpis 1"/>
          <p:cNvSpPr/>
          <p:nvPr/>
        </p:nvSpPr>
        <p:spPr>
          <a:xfrm>
            <a:off x="755640" y="476280"/>
            <a:ext cx="742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85e7c"/>
                </a:solidFill>
                <a:latin typeface="Arial"/>
                <a:ea typeface="Arial"/>
              </a:rPr>
              <a:t>Historický vývoj vícepruhových komunik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7" descr=""/>
          <p:cNvPicPr/>
          <p:nvPr/>
        </p:nvPicPr>
        <p:blipFill>
          <a:blip r:embed="rId1"/>
          <a:stretch/>
        </p:blipFill>
        <p:spPr>
          <a:xfrm>
            <a:off x="345960" y="1292400"/>
            <a:ext cx="6016680" cy="45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6632640" y="2781360"/>
          <a:ext cx="2313000" cy="2460600"/>
        </p:xfrm>
        <a:graphic>
          <a:graphicData uri="http://schemas.openxmlformats.org/drawingml/2006/table">
            <a:tbl>
              <a:tblPr/>
              <a:tblGrid>
                <a:gridCol w="1241280"/>
                <a:gridCol w="1071720"/>
              </a:tblGrid>
              <a:tr h="30780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dob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lka [k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636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 – 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16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 – 1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80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 – 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16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 –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636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–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80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–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160"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360" rIns="36360" tIns="36360" bIns="3636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53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TextovéPole 3"/>
          <p:cNvSpPr/>
          <p:nvPr/>
        </p:nvSpPr>
        <p:spPr>
          <a:xfrm>
            <a:off x="6588000" y="52912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  <a:ea typeface="Arial"/>
              </a:rPr>
              <a:t>Pozn. bez vnitropražských úseků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4"/>
          <p:cNvSpPr/>
          <p:nvPr/>
        </p:nvSpPr>
        <p:spPr>
          <a:xfrm>
            <a:off x="157320" y="6237360"/>
            <a:ext cx="87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VII. konference Doprava, zdraví a životní prostředí                           7. 11. 2016, B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Dark</cp:lastModifiedBy>
  <cp:lastPrinted>2011-09-06T07:59:48Z</cp:lastPrinted>
  <dcterms:modified xsi:type="dcterms:W3CDTF">2016-11-07T08:34:50Z</dcterms:modified>
  <cp:revision>212</cp:revision>
  <dc:subject/>
  <dc:title>Prezentace aplikace PowerPoint</dc:title>
</cp:coreProperties>
</file>